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4BB-6979-40D3-B250-BB9BF00E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C6F-53AF-486E-ACAA-006F9424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7FF-3C4C-4C26-8B8D-7B891715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62B-858F-4A88-8D91-93DCBF04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830-FA55-41A5-87B5-0D0613D6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5B4-EE91-4E12-BFF9-E4EF3429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CE1-BE61-4203-BFA5-7F1276A1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1ED-D14C-4C19-BD54-992C5339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99C-4336-4FF5-A0E9-6CE638C8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B51-1E41-4326-91B3-4CFD264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142-57E3-4A0C-A2A6-0330EB3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F30-10E9-4CF1-B9D2-8F66D9B7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6925-6AF4-49CC-8293-BBF5127DFE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Karl  Marx   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6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星期一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 15:40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0512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222120"/>
            <a:ext cx="792468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C. knew some English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769644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7400" y="1447920"/>
            <a:ext cx="5715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Unit 21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Karl  Mar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828800"/>
            <a:ext cx="8153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82880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13372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1. Why did Marx leave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homeland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 was forced to leave his homeland for political reas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2. How many countries did he go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after he left German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34340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re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ance, Belgium and Engl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3623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How did he feel about his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when he first got to Englan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038480"/>
            <a:ext cx="7391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found his English was too limited / was not good enoug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13372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What did he do to improve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65760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orked very hard and so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an to  write article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or a newspap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5. Why did Engels write to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5812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rote him a letter to prai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rx for his good Englis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143000"/>
            <a:ext cx="861048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Marx went to Russia in the 1870’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It took Marx six months to lear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ough Russian for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rticl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429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5410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870120"/>
            <a:ext cx="861048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Marx gave some advice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earning English in one of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ook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219320"/>
            <a:ext cx="861048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You can not master a fore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anguage unless you transla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it into your ow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952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3200" y="838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Unit 21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1178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导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436920"/>
            <a:ext cx="7315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e dialogue quickly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swer the ques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2362320"/>
          <a:ext cx="7315200" cy="294588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d i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ed (languages)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 close friend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90720" y="9907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uch do you know about Carl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, France, Belgium, Engl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3526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nch, English, Russian  (German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648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g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4400" y="1523880"/>
          <a:ext cx="7315200" cy="4229280"/>
        </p:xfrm>
        <a:graphic>
          <a:graphicData uri="http://schemas.openxmlformats.org/drawingml/2006/table">
            <a:tbl>
              <a:tblPr/>
              <a:tblGrid>
                <a:gridCol w="3200400"/>
                <a:gridCol w="411480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te articl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343400" y="1752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y 5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181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743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4343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school,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German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7242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problem,  the hard life of the peasan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762120"/>
            <a:ext cx="62485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听力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685800"/>
            <a:ext cx="7467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朗读课文，每日三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记住新单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0—2    P81—1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3—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网查找有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英语的资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066680"/>
            <a:ext cx="80010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. What are they talk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bout?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2767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y are talking about English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06668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. Is Yang Pei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nglish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6705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Yes, but she has some difficulty with idio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657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tch a cold”is something you do; “have a cold” is something you h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952880"/>
            <a:ext cx="8076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down” is to let something fall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up” is to cut something into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57200"/>
            <a:ext cx="7925040" cy="36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Do you know the differ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tch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have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dow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u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362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a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根据地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基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048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volutionary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革命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778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imited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限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64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apid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迅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5334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cl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362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rai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 &amp;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赞扬；表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ncourag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鼓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11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orks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著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029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ster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精通；掌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听课文前四段录音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6:47:41Z</dcterms:created>
  <dc:creator>User</dc:creator>
  <dc:description/>
  <dc:language>en-US</dc:language>
  <cp:lastModifiedBy>Zhang Lingdi</cp:lastModifiedBy>
  <dcterms:modified xsi:type="dcterms:W3CDTF">2003-06-10T09:33:18Z</dcterms:modified>
  <cp:revision>33</cp:revision>
  <dc:subject/>
  <dc:title>PowerPoint 演示文稿</dc:title>
</cp:coreProperties>
</file>